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D1E-6338-4805-88AC-5F708190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81D-D942-44B3-8990-85B7C9B1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2E7-C391-4F83-96E3-938A0C8E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98F-074C-4211-B0A9-D16C8F5E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94F55-E3EF-4AE2-A8DB-B6678FDE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E0D08-47F3-4591-8972-B5B706F7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A1BD6-A4DC-4858-8A48-63203EDE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00630-D0D6-406D-B365-49620B76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39C53-AF86-4979-A766-A82D18F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A81F-5BEE-467A-8479-940AF113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3E1F2-7A3A-4D8E-8776-4AB9395F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5C0-BDBD-48E0-B906-4648743A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96BEF-1905-4971-8887-0AE3B8E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3424F-443E-402A-99D5-1415976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9C157-C8CB-4B32-95E2-F7BBE4A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A3ED3-FD80-4A8A-A36A-1E25733D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40D8-4723-4C9C-94F1-273C895B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131-732D-4027-B55E-B37493B2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F56-42FB-49BE-B5D8-D5590600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428-EBFD-41B3-837B-6D0CD85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CB37-CCF1-41A3-829A-D9AD1F4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D93-BC18-4A51-9BEF-09D00194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418-6240-44DA-951A-12192F1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275-F67E-4B68-B8D2-B8CD914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7CD-DD57-40AF-A3DD-AF153DDBF5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2669-E4D7-4B2B-A643-E823D721AC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ce 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3040" y="3984120"/>
            <a:ext cx="639792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Teena serra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solv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vestiga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feren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dependent variabl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ul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exhausti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mosphere is the gas that surrounds a pla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26600"/>
            <a:ext cx="710388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e of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l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ximum amount that can be held or tak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nt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ientific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a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b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r more substanes put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rce that ruens th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clus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osition of 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 Elementary School</cp:lastModifiedBy>
  <dcterms:modified xsi:type="dcterms:W3CDTF">2009-04-16T17:24:10Z</dcterms:modified>
  <cp:revision>14</cp:revision>
  <dc:subject/>
  <dc:title>Science Terms</dc:title>
</cp:coreProperties>
</file>